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F78-3D16-405A-94B6-07D2DBAD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302-F939-4590-8DFF-9E9E1A8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265-2895-44D7-9875-2AA887AF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CB9-8777-4F8B-AE43-CB93BB1C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710-41D1-4D8D-BA76-44BF8F5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9BC-4131-4D38-9EEE-3871C647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D09-09AF-4AF0-BC9E-25E28AB6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4CB-A31F-4E07-BAE2-1FE3825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549-9021-45DA-A0B4-8AA3B45C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91A-0F62-4352-A3D8-2EF89ED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EE9-7709-40EB-A236-60E39B3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8AD-76FA-41CD-BA31-7472C71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4E3-E279-4B61-840A-51E46A58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55:09Z</dcterms:created>
  <dc:creator>Cursant19</dc:creator>
  <dc:description/>
  <dc:language>en-US</dc:language>
  <cp:lastModifiedBy>Cursant19</cp:lastModifiedBy>
  <dcterms:modified xsi:type="dcterms:W3CDTF">2010-08-25T10:55:57Z</dcterms:modified>
  <cp:revision>1</cp:revision>
  <dc:subject/>
  <dc:title>Diapozitivul 1</dc:title>
</cp:coreProperties>
</file>